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F1A15-B8EB-4566-BBB7-77083CC40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CDC12-B658-48EA-9674-B0ACBD27B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ABF72-AA3C-455E-A2C6-4FE2B30EB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58608-8EE6-425A-8525-B831B430F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FF9A6-848B-4FE1-A401-4A90F6020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82718-F910-4EBD-8563-35E8344A5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F8E9E-0665-4165-BE2F-98365C567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C7234-A874-40C2-9883-BD4542F26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29F5E-ACF9-4B97-887F-4AC22EC80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7BFE4-1A6E-4CE4-B0DC-6A738E86F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A83F5-F7E9-49E0-A3F1-3356B35EF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C38C5-4BF4-4984-93CE-0310169481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E68D5-CD3B-4094-AA44-D3F8C040FB7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consultantplus://offline/main?base=LAW;n=101905;fld=134"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280" y="2484000"/>
            <a:ext cx="8496360" cy="2592360"/>
          </a:xfrm>
          <a:prstGeom prst="rect">
            <a:avLst/>
          </a:prstGeom>
          <a:solidFill>
            <a:srgbClr val="ffffff">
              <a:alpha val="74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БЮДЖЕТ ДЛЯ ГРАЖДАН  </a:t>
            </a:r>
            <a:br>
              <a:rPr sz="3200"/>
            </a:br>
            <a:r>
              <a:rPr b="0" lang="ru-RU" sz="3200" spc="-1" strike="noStrike">
                <a:solidFill>
                  <a:srgbClr val="000000"/>
                </a:solidFill>
                <a:latin typeface="Calibri"/>
              </a:rPr>
              <a:t>м</a:t>
            </a:r>
            <a:r>
              <a:rPr b="0" lang="ru-RU" sz="3200" spc="-1" strike="noStrike">
                <a:solidFill>
                  <a:srgbClr val="000000"/>
                </a:solidFill>
                <a:latin typeface="Arial"/>
              </a:rPr>
              <a:t>униципального образования «Суоярвский район»</a:t>
            </a:r>
            <a:r>
              <a:rPr b="0" lang="ru-RU" sz="2000" spc="-1" strike="noStrike">
                <a:solidFill>
                  <a:srgbClr val="000000"/>
                </a:solidFill>
                <a:latin typeface="Calibri"/>
              </a:rPr>
              <a:t>к проекту закона о бюджете </a:t>
            </a:r>
            <a:r>
              <a:rPr b="0" lang="ru-RU" sz="2000" spc="-1" strike="noStrike">
                <a:solidFill>
                  <a:srgbClr val="000000"/>
                </a:solidFill>
                <a:latin typeface="Arial"/>
              </a:rPr>
              <a:t>Муниципального образования «Суоярвский район»</a:t>
            </a:r>
            <a:br>
              <a:rPr sz="2000"/>
            </a:br>
            <a:r>
              <a:rPr b="0" lang="ru-RU" sz="2000" spc="-1" strike="noStrike">
                <a:solidFill>
                  <a:srgbClr val="000000"/>
                </a:solidFill>
                <a:latin typeface="Calibri"/>
              </a:rPr>
              <a:t> на 2014 год</a:t>
            </a:r>
            <a:endParaRPr b="0" lang="en-US" sz="20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руктура расходов бюджета м</a:t>
            </a:r>
            <a:r>
              <a:rPr b="0" lang="ru-RU" sz="2000" spc="-1" strike="noStrike">
                <a:solidFill>
                  <a:srgbClr val="000000"/>
                </a:solidFill>
                <a:latin typeface="Arial"/>
              </a:rPr>
              <a:t>униципального образования «Суоярвский район»</a:t>
            </a:r>
            <a:br>
              <a:rPr sz="2000"/>
            </a:br>
            <a:r>
              <a:rPr b="0" lang="ru-RU" sz="2000" spc="-1" strike="noStrike">
                <a:solidFill>
                  <a:srgbClr val="000000"/>
                </a:solidFill>
                <a:latin typeface="Calibri"/>
              </a:rPr>
              <a:t>на 2014 год</a:t>
            </a:r>
            <a:endParaRPr b="0" lang="en-US" sz="2000" spc="-1" strike="noStrike">
              <a:solidFill>
                <a:srgbClr val="000000"/>
              </a:solidFill>
              <a:latin typeface="Calibri"/>
            </a:endParaRPr>
          </a:p>
        </p:txBody>
      </p:sp>
      <p:sp>
        <p:nvSpPr>
          <p:cNvPr id="64" name=""/>
          <p:cNvSpPr/>
          <p:nvPr/>
        </p:nvSpPr>
        <p:spPr>
          <a:xfrm>
            <a:off x="7323120" y="2409840"/>
            <a:ext cx="184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5" name=""/>
          <p:cNvGraphicFramePr/>
          <p:nvPr/>
        </p:nvGraphicFramePr>
        <p:xfrm>
          <a:off x="324000" y="1484280"/>
          <a:ext cx="8497800" cy="4930920"/>
        </p:xfrm>
        <a:graphic>
          <a:graphicData uri="http://schemas.openxmlformats.org/drawingml/2006/table">
            <a:tbl>
              <a:tblPr/>
              <a:tblGrid>
                <a:gridCol w="6062400"/>
                <a:gridCol w="2435400"/>
              </a:tblGrid>
              <a:tr h="360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ea typeface="Times New Roman"/>
                        </a:rPr>
                        <a:t>Наименование показателя</a:t>
                      </a:r>
                      <a:endParaRPr b="0" lang="en-US" sz="1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14 год</a:t>
                      </a:r>
                      <a:endParaRPr b="0" lang="en-US" sz="11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Всего расходов</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82132</a:t>
                      </a:r>
                      <a:endParaRPr b="0" lang="en-US" sz="12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в том числе:</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ОБЩЕГОСУДАРСТВЕННЫЕ ВОПРОСЫ</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0349</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НАЦИОНАЛЬНАЯ ОБОРОНА</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92</a:t>
                      </a:r>
                      <a:endParaRPr b="0" lang="en-US" sz="12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НАЦИОНАЛЬНАЯ БЕЗОПАСНОСТЬ И ПРАВООХРАНИТЕЛЬНАЯ ДЕЯТЕЛЬНОСТЬ</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50</a:t>
                      </a:r>
                      <a:endParaRPr b="0" lang="en-US" sz="12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НАЦИОНАЛЬНАЯ ЭКОНОМИКА</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8</a:t>
                      </a:r>
                      <a:endParaRPr b="0" lang="en-US" sz="12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СРЕДСТВА МАССОВОЙ ИНФОРМАЦИИ</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00</a:t>
                      </a:r>
                      <a:endParaRPr b="0" lang="en-US" sz="12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ЖИЛИЩНО-КОММУНАЛЬНОЕ ХОЗЯЙСТВО</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570</a:t>
                      </a:r>
                      <a:endParaRPr b="0" lang="en-US" sz="12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ОБРАЗОВАНИЕ</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70215</a:t>
                      </a:r>
                      <a:endParaRPr b="0" lang="en-US" sz="12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КУЛЬТУРА</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1588</a:t>
                      </a:r>
                      <a:endParaRPr b="0" lang="en-US" sz="12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1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СОЦИАЛЬНАЯ ПОЛИТИКА</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1166</a:t>
                      </a:r>
                      <a:endParaRPr b="0" lang="en-US" sz="12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9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ФИЗИЧЕСКАЯ КУЛЬТУРА И СПОРТ</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50</a:t>
                      </a:r>
                      <a:endParaRPr b="0" lang="en-US" sz="12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14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ОБСЛУЖИВАНИЕ ГОСУДАРСТВЕННОГО И МУНИЦИПАЛЬНОГО ДОЛГА</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00</a:t>
                      </a:r>
                      <a:endParaRPr b="0" lang="en-US" sz="12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6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МЕЖБЮДЖЕТНЫЕ ТРАНСФЕРТЫ</a:t>
                      </a:r>
                      <a:endParaRPr b="0" lang="en-US" sz="10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384</a:t>
                      </a:r>
                      <a:endParaRPr b="0" lang="en-US" sz="12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сновные параметры консолидированного бюджета муниципального образования «Суоярвский район»</a:t>
            </a:r>
            <a:endParaRPr b="0" lang="en-US" sz="2000" spc="-1" strike="noStrike">
              <a:solidFill>
                <a:srgbClr val="000000"/>
              </a:solidFill>
              <a:latin typeface="Calibri"/>
            </a:endParaRPr>
          </a:p>
        </p:txBody>
      </p:sp>
      <p:graphicFrame>
        <p:nvGraphicFramePr>
          <p:cNvPr id="67" name=""/>
          <p:cNvGraphicFramePr/>
          <p:nvPr/>
        </p:nvGraphicFramePr>
        <p:xfrm>
          <a:off x="457200" y="1600200"/>
          <a:ext cx="8229600" cy="4852800"/>
        </p:xfrm>
        <a:graphic>
          <a:graphicData uri="http://schemas.openxmlformats.org/drawingml/2006/table">
            <a:tbl>
              <a:tblPr/>
              <a:tblGrid>
                <a:gridCol w="1976400"/>
                <a:gridCol w="1041480"/>
                <a:gridCol w="1042920"/>
                <a:gridCol w="1041480"/>
                <a:gridCol w="1042920"/>
                <a:gridCol w="1041480"/>
                <a:gridCol w="1042920"/>
              </a:tblGrid>
              <a:tr h="335160">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Показатели ( тыс.руб.)</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011 г.</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012 г.</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оценка 2013гю</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Плановый период</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33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014 г.</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015 г.</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016г</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0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Доходы- всего,    в т.ч.</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436409</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429411</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532175</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418101</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419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419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1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1. Налоговые и неналоговые</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127665</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152888</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180639</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167523</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168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168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48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 Безвозмездные перечисления</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308744</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76523</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351536</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50578</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51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51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0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Расходы -  всего, в т.ч.</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449387</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43642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554406</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432188</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432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432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03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Оплата труда с начислениями</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56776</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3137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66672</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67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67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67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40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Профицит(+), дефицит(-)</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12978</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7009</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22231</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14087</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13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13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37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10,2</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4,6</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12,3</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8,4</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7,7</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7,7</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Основные параметры районного бюджета на 2014-2016 годы</a:t>
            </a:r>
            <a:endParaRPr b="0" lang="en-US" sz="2400" spc="-1" strike="noStrike">
              <a:solidFill>
                <a:srgbClr val="000000"/>
              </a:solidFill>
              <a:latin typeface="Calibri"/>
            </a:endParaRPr>
          </a:p>
        </p:txBody>
      </p:sp>
      <p:graphicFrame>
        <p:nvGraphicFramePr>
          <p:cNvPr id="69" name=""/>
          <p:cNvGraphicFramePr/>
          <p:nvPr/>
        </p:nvGraphicFramePr>
        <p:xfrm>
          <a:off x="250920" y="1268280"/>
          <a:ext cx="8713800" cy="5247000"/>
        </p:xfrm>
        <a:graphic>
          <a:graphicData uri="http://schemas.openxmlformats.org/drawingml/2006/table">
            <a:tbl>
              <a:tblPr/>
              <a:tblGrid>
                <a:gridCol w="2160360"/>
                <a:gridCol w="865440"/>
                <a:gridCol w="912600"/>
                <a:gridCol w="955800"/>
                <a:gridCol w="1082520"/>
                <a:gridCol w="827280"/>
                <a:gridCol w="955440"/>
                <a:gridCol w="954360"/>
              </a:tblGrid>
              <a:tr h="307080">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Показатели ( тыс.руб.)</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010 г.</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011 г.</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012 г.</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оценка 2013г.</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Плановый период</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20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014 г.</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015 г.</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016г</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Доходы- всего, в т.ч.</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338329</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413807</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398547</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497307</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372224</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37872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380331</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1. Налоговые и неналоговые</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101432</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104363</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12143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144247</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120378</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12188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123331</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 Безвозмездные перечисления</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36897</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309444</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77177</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35306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51846</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5684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57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Расходы -  всего, в т.ч.</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349928</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427423</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402089</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51321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382132</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386738</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387204</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Оплата труда с начислениями</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00355</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36686</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12563</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191281</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02758</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14923</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15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Профицит(+), дефицит(-)</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11599</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13617</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3542</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15903</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9908</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8018</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6873</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Верхний предел муниципального внутреннего долга на конец очередного финансового года</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6503</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38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49447</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48613</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спределение между муниципальными образованиями Суоярвского района дотаций на выравнивание бюджетной обеспеченности муниципальных образований на 2014-2016 годы</a:t>
            </a:r>
            <a:endParaRPr b="0" lang="en-US" sz="2000" spc="-1" strike="noStrike">
              <a:solidFill>
                <a:srgbClr val="000000"/>
              </a:solidFill>
              <a:latin typeface="Calibri"/>
            </a:endParaRPr>
          </a:p>
        </p:txBody>
      </p:sp>
      <p:graphicFrame>
        <p:nvGraphicFramePr>
          <p:cNvPr id="71" name=""/>
          <p:cNvGraphicFramePr/>
          <p:nvPr/>
        </p:nvGraphicFramePr>
        <p:xfrm>
          <a:off x="457200" y="1600200"/>
          <a:ext cx="8229600" cy="3949560"/>
        </p:xfrm>
        <a:graphic>
          <a:graphicData uri="http://schemas.openxmlformats.org/drawingml/2006/table">
            <a:tbl>
              <a:tblPr/>
              <a:tblGrid>
                <a:gridCol w="730080"/>
                <a:gridCol w="3510000"/>
                <a:gridCol w="1328760"/>
                <a:gridCol w="1330560"/>
                <a:gridCol w="1330200"/>
              </a:tblGrid>
              <a:tr h="388440">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 п/п</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Муниципальные образования Суоярвского района</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Плановый период (тыс.руб.)</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20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Проект на 2014год</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Прогноз на 2015 год</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Прогноз на 2016 год</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32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1</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уоярвское городское поселение</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34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Поросозерское сельское поселение</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1831</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9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3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34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3</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Найстеньярвское сельское поселение</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3166</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3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3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331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4</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Лоймольское сельское поселение</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662</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28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30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34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5</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Вешкельское сельское поселение</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725</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8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8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Cyr"/>
                        </a:rPr>
                        <a:t> </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Итого</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8384</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95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Cyr"/>
                        </a:rPr>
                        <a:t>9800</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Распределение дотации бюджетам поселений на выравнивание уровня бюджетной обеспеченности из Районного фонда финансовой поддержки в 2014  году</a:t>
            </a:r>
            <a:br>
              <a:rPr sz="2000"/>
            </a:br>
            <a:r>
              <a:rPr b="0" lang="en-US" sz="2000" spc="-1" strike="noStrike">
                <a:solidFill>
                  <a:srgbClr val="000000"/>
                </a:solidFill>
                <a:latin typeface="Calibri"/>
              </a:rPr>
              <a:t>(тыс.руб.)</a:t>
            </a:r>
            <a:endParaRPr b="0" lang="en-US" sz="2000" spc="-1" strike="noStrike">
              <a:solidFill>
                <a:srgbClr val="000000"/>
              </a:solidFill>
              <a:latin typeface="Calibri"/>
            </a:endParaRPr>
          </a:p>
        </p:txBody>
      </p:sp>
      <p:graphicFrame>
        <p:nvGraphicFramePr>
          <p:cNvPr id="73" name=""/>
          <p:cNvGraphicFramePr/>
          <p:nvPr/>
        </p:nvGraphicFramePr>
        <p:xfrm>
          <a:off x="457200" y="1600200"/>
          <a:ext cx="8229600" cy="3246480"/>
        </p:xfrm>
        <a:graphic>
          <a:graphicData uri="http://schemas.openxmlformats.org/drawingml/2006/table">
            <a:tbl>
              <a:tblPr/>
              <a:tblGrid>
                <a:gridCol w="762120"/>
                <a:gridCol w="3655800"/>
                <a:gridCol w="938160"/>
                <a:gridCol w="1486080"/>
                <a:gridCol w="1387440"/>
              </a:tblGrid>
              <a:tr h="7491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t>
                      </a:r>
                      <a:r>
                        <a:rPr b="0" lang="ru-RU" sz="1400" spc="-1" strike="noStrike">
                          <a:solidFill>
                            <a:srgbClr val="000000"/>
                          </a:solidFill>
                          <a:latin typeface="Times New Roman"/>
                          <a:ea typeface="Times New Roman"/>
                        </a:rPr>
                        <a:t>п\п</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Наименование поселения</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Всего дотации</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В т.ч. за счет субвенции</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В т.ч. за счет района</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росозерское сельское поселение</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83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57</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7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йстенъярвское сельское поселение</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16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5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10</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29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оймольское сельское поселение</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66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9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70</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ешкельское сельское поселение</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2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79</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4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Всего</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38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38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00</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Распределение субвенций бюджетам поселений на осуществление первичного воинского учета на территориях, где отсутствуют военные комиссариаты   в 2014 году</a:t>
            </a:r>
            <a:br>
              <a:rPr sz="2000"/>
            </a:br>
            <a:r>
              <a:rPr b="0" lang="en-US" sz="2000" spc="-1" strike="noStrike">
                <a:solidFill>
                  <a:srgbClr val="000000"/>
                </a:solidFill>
                <a:latin typeface="Calibri"/>
              </a:rPr>
              <a:t>(тыс.руб.)</a:t>
            </a:r>
            <a:endParaRPr b="0" lang="en-US" sz="2000" spc="-1" strike="noStrike">
              <a:solidFill>
                <a:srgbClr val="000000"/>
              </a:solidFill>
              <a:latin typeface="Calibri"/>
            </a:endParaRPr>
          </a:p>
        </p:txBody>
      </p:sp>
      <p:graphicFrame>
        <p:nvGraphicFramePr>
          <p:cNvPr id="75" name=""/>
          <p:cNvGraphicFramePr/>
          <p:nvPr/>
        </p:nvGraphicFramePr>
        <p:xfrm>
          <a:off x="457200" y="1600200"/>
          <a:ext cx="8229600" cy="3567240"/>
        </p:xfrm>
        <a:graphic>
          <a:graphicData uri="http://schemas.openxmlformats.org/drawingml/2006/table">
            <a:tbl>
              <a:tblPr/>
              <a:tblGrid>
                <a:gridCol w="977760"/>
                <a:gridCol w="5018400"/>
                <a:gridCol w="2233440"/>
              </a:tblGrid>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п/п</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Наименование поселения</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Сумма</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росозерское сельское поселение</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3</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йстенъярвское сельское поселение</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3</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оймольское сельское поселение</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3</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ешкельское сельское поселение</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3.0</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Всего</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92</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Распределение субвенций бюджетам поселений на осуществление полномочий Республики Карелия по созданию и обеспечению деятельности административных комиссий и определению перечня должностных лиц, уполномоченных составлять протоколы   в 2014 году</a:t>
            </a:r>
            <a:br>
              <a:rPr sz="2000"/>
            </a:br>
            <a:r>
              <a:rPr b="0" lang="en-US" sz="2000" spc="-1" strike="noStrike">
                <a:solidFill>
                  <a:srgbClr val="000000"/>
                </a:solidFill>
                <a:latin typeface="Calibri"/>
              </a:rPr>
              <a:t>(тыс.руб.)</a:t>
            </a:r>
            <a:endParaRPr b="0" lang="en-US" sz="2000" spc="-1" strike="noStrike">
              <a:solidFill>
                <a:srgbClr val="000000"/>
              </a:solidFill>
              <a:latin typeface="Calibri"/>
            </a:endParaRPr>
          </a:p>
        </p:txBody>
      </p:sp>
      <p:graphicFrame>
        <p:nvGraphicFramePr>
          <p:cNvPr id="77" name=""/>
          <p:cNvGraphicFramePr/>
          <p:nvPr/>
        </p:nvGraphicFramePr>
        <p:xfrm>
          <a:off x="457200" y="2133720"/>
          <a:ext cx="8229600" cy="3252600"/>
        </p:xfrm>
        <a:graphic>
          <a:graphicData uri="http://schemas.openxmlformats.org/drawingml/2006/table">
            <a:tbl>
              <a:tblPr/>
              <a:tblGrid>
                <a:gridCol w="977760"/>
                <a:gridCol w="5018400"/>
                <a:gridCol w="2233440"/>
              </a:tblGrid>
              <a:tr h="519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п/п</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Наименование поселения</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Сумма</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уоярвское городское поселение</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2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росозерское сельское поселение</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6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йстенъярвское сельское поселение</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0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оймольское сельское поселение</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2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ешкельское сельское поселение</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Распределение средств, передаваемых для компенсации дополнительных расходов, возникших в результате решений, принятых органами власти другого уровня   в 2014 году (руб.)</a:t>
            </a:r>
            <a:endParaRPr b="0" lang="en-US" sz="2000" spc="-1" strike="noStrike">
              <a:solidFill>
                <a:srgbClr val="000000"/>
              </a:solidFill>
              <a:latin typeface="Calibri"/>
            </a:endParaRPr>
          </a:p>
        </p:txBody>
      </p:sp>
      <p:graphicFrame>
        <p:nvGraphicFramePr>
          <p:cNvPr id="79" name=""/>
          <p:cNvGraphicFramePr/>
          <p:nvPr/>
        </p:nvGraphicFramePr>
        <p:xfrm>
          <a:off x="457200" y="1844640"/>
          <a:ext cx="8229600" cy="4416480"/>
        </p:xfrm>
        <a:graphic>
          <a:graphicData uri="http://schemas.openxmlformats.org/drawingml/2006/table">
            <a:tbl>
              <a:tblPr/>
              <a:tblGrid>
                <a:gridCol w="977760"/>
                <a:gridCol w="5018400"/>
                <a:gridCol w="2233440"/>
              </a:tblGrid>
              <a:tr h="796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п/п</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Наименование поселения</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Сумма</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row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ешкельское сельское поселение</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a:noFill/>
                    </a:lnB>
                    <a:noFill/>
                  </a:tcPr>
                </a:tc>
                <a:tc row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50000</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21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на софинансирование выполнения работ по разработке проектно-сметной документации на капитальный ремонт здания под пожарное депо с.Вешкелица ул.Комсомольская, д.11</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Cyr"/>
                        </a:rPr>
                        <a:t> </a:t>
                      </a:r>
                      <a:endParaRPr b="0" lang="en-US" sz="1600" spc="-1" strike="noStrike">
                        <a:solidFill>
                          <a:srgbClr val="000000"/>
                        </a:solidFill>
                        <a:latin typeface="Calibri"/>
                      </a:endParaRPr>
                    </a:p>
                  </a:txBody>
                  <a:tcPr anchor="t" marL="90000" marR="90000">
                    <a:lnL>
                      <a:no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80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Всего</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50000</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еречень расходов по разделу 0013 30 0 1202  «Другие общегосударственные расходы на 2014 год  (руб.)</a:t>
            </a:r>
            <a:endParaRPr b="0" lang="en-US" sz="2000" spc="-1" strike="noStrike">
              <a:solidFill>
                <a:srgbClr val="000000"/>
              </a:solidFill>
              <a:latin typeface="Calibri"/>
            </a:endParaRPr>
          </a:p>
        </p:txBody>
      </p:sp>
      <p:graphicFrame>
        <p:nvGraphicFramePr>
          <p:cNvPr id="81" name=""/>
          <p:cNvGraphicFramePr/>
          <p:nvPr/>
        </p:nvGraphicFramePr>
        <p:xfrm>
          <a:off x="457200" y="1773360"/>
          <a:ext cx="8229600" cy="4600080"/>
        </p:xfrm>
        <a:graphic>
          <a:graphicData uri="http://schemas.openxmlformats.org/drawingml/2006/table">
            <a:tbl>
              <a:tblPr/>
              <a:tblGrid>
                <a:gridCol w="968400"/>
                <a:gridCol w="5586480"/>
                <a:gridCol w="1674720"/>
              </a:tblGrid>
              <a:tr h="476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Cyr"/>
                        </a:rPr>
                        <a:t>№ </a:t>
                      </a:r>
                      <a:r>
                        <a:rPr b="0" lang="ru-RU" sz="1600" spc="-1" strike="noStrike">
                          <a:solidFill>
                            <a:srgbClr val="000000"/>
                          </a:solidFill>
                          <a:latin typeface="Arial Cyr"/>
                        </a:rPr>
                        <a:t>п\п</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Cyr"/>
                        </a:rPr>
                        <a:t>Наименование</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Cyr"/>
                        </a:rPr>
                        <a:t>сумма</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251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Cyr"/>
                        </a:rPr>
                        <a:t>1</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Cyr"/>
                        </a:rPr>
                        <a:t>Представительские расходы, приобретение грамот, подарков, сувениров</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Cyr"/>
                        </a:rPr>
                        <a:t>220000,00</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1721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Cyr"/>
                        </a:rPr>
                        <a:t>2</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Cyr"/>
                        </a:rPr>
                        <a:t>Постановка на кадастровый учет, оценка недвижимости, признание прав и регулирование отношений по государственной и муниципальной собственности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Cyr"/>
                        </a:rPr>
                        <a:t>700000,00</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251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Cyr"/>
                        </a:rPr>
                        <a:t>3</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Cyr"/>
                        </a:rPr>
                        <a:t>Уплата налога на имущество организаций и земельного налога</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Cyr"/>
                        </a:rPr>
                        <a:t>140000,00</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247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Cyr"/>
                        </a:rPr>
                        <a:t>4</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Cyr"/>
                        </a:rPr>
                        <a:t>Прочие непредвиденные расходы, не отнесенные к другим разделам бюджетной классификации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Cyr"/>
                        </a:rPr>
                        <a:t>5610000,00</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66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Cyr"/>
                        </a:rPr>
                        <a:t> </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Cyr"/>
                        </a:rPr>
                        <a:t>Итого</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Cyr"/>
                        </a:rPr>
                        <a:t>6670000,00</a:t>
                      </a:r>
                      <a:endParaRPr b="0" lang="en-US" sz="16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сновные направления бюджетной и налоговой политики муниципального образования «Суоярвский район» на 2014-2016 годы</a:t>
            </a:r>
            <a:endParaRPr b="0" lang="en-US" sz="2400" spc="-1" strike="noStrike">
              <a:solidFill>
                <a:srgbClr val="000000"/>
              </a:solidFill>
              <a:latin typeface="Calibri"/>
            </a:endParaRPr>
          </a:p>
        </p:txBody>
      </p:sp>
      <p:sp>
        <p:nvSpPr>
          <p:cNvPr id="83"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В основу бюджетной и налоговой политики на 2014 год и на плановый период 2015 и 2016 годов положены стратегические цели развития страны, сформулированные в Посланиях Президента Российской Федерации Федеральному Собранию Российской Федерации, стратегические цели развития Республики Карелия, сформулированные в Концепции социально-экономического развития Республики Карелия на период до 2016 года, основные положения Бюджетного </a:t>
            </a:r>
            <a:r>
              <a:rPr b="0" lang="ru-RU" sz="1800" spc="-1" strike="noStrike" u="sng">
                <a:solidFill>
                  <a:srgbClr val="0000ff"/>
                </a:solidFill>
                <a:uFillTx/>
                <a:latin typeface="Calibri"/>
                <a:hlinkClick r:id="rId1"/>
              </a:rPr>
              <a:t>послани</a:t>
            </a:r>
            <a:r>
              <a:rPr b="0" lang="ru-RU" sz="1800" spc="-1" strike="noStrike">
                <a:solidFill>
                  <a:srgbClr val="000000"/>
                </a:solidFill>
                <a:latin typeface="Calibri"/>
              </a:rPr>
              <a:t>я Главы Республики Карелия на 2014 год и плановый период 2015 и 2016 годов и прогноз социально-экономического развития муниципального образования «Суоярвский район».</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Бюджетная политика в перспективном периоде должна быть направлена на обеспечение финансовой стабильности, сбалансированности и устойчивости бюджетной системы, реализацию структурных реформ и безусловное выполнение принятых  социальных обязательств.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Основными задачами бюджетной и налоговой политики в 2014 году остаются обеспечение устойчивого роста экономики, эффективное решение социально-экономических задач и улучшение качества жизни населения района, реализация на территории района реформы местного самоуправления. </a:t>
            </a:r>
            <a:endParaRPr b="0" lang="en-US" sz="18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274320"/>
            <a:ext cx="8218440" cy="35146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юджет для граждан» познакомит вас с положениями основного финансового документа</a:t>
            </a:r>
            <a:r>
              <a:rPr b="0" lang="ru-RU" sz="2000" spc="-1" strike="noStrike">
                <a:solidFill>
                  <a:srgbClr val="000000"/>
                </a:solidFill>
                <a:latin typeface="Arial"/>
              </a:rPr>
              <a:t> муниципального образования «Суоярвский район»</a:t>
            </a:r>
            <a:r>
              <a:rPr b="0" lang="ru-RU" sz="2000" spc="-1" strike="noStrike">
                <a:solidFill>
                  <a:srgbClr val="000000"/>
                </a:solidFill>
                <a:latin typeface="Calibri"/>
              </a:rPr>
              <a:t>, а именно: проекта  бюджета </a:t>
            </a:r>
            <a:r>
              <a:rPr b="0" lang="ru-RU" sz="2000" spc="-1" strike="noStrike">
                <a:solidFill>
                  <a:srgbClr val="000000"/>
                </a:solidFill>
                <a:latin typeface="Arial"/>
              </a:rPr>
              <a:t>района</a:t>
            </a:r>
            <a:r>
              <a:rPr b="0" lang="ru-RU" sz="2000" spc="-1" strike="noStrike">
                <a:solidFill>
                  <a:srgbClr val="000000"/>
                </a:solidFill>
                <a:latin typeface="Calibri"/>
              </a:rPr>
              <a:t> на 2014 год. Представленная информация предназначена для широкого круга пользователей и будет интересна и полезна как студентам, педагогам, врачам, молодым семьям, так и гражданским служащим, пенсионерам и другим категориям населения, так как бюджет затрагивает интересы каждого жителя </a:t>
            </a:r>
            <a:r>
              <a:rPr b="0" lang="ru-RU" sz="2000" spc="-1" strike="noStrike">
                <a:solidFill>
                  <a:srgbClr val="000000"/>
                </a:solidFill>
                <a:latin typeface="Arial"/>
              </a:rPr>
              <a:t>Суоярвского района</a:t>
            </a:r>
            <a:r>
              <a:rPr b="0" lang="ru-RU" sz="2000" spc="-1" strike="noStrike">
                <a:solidFill>
                  <a:srgbClr val="000000"/>
                </a:solidFill>
                <a:latin typeface="Calibri"/>
              </a:rPr>
              <a:t> района. Мы постарались в доступной и понятной форме для граждан, показать основные показатели бюджета.</a:t>
            </a:r>
            <a:endParaRPr b="0" lang="en-US" sz="2000" spc="-1" strike="noStrike">
              <a:solidFill>
                <a:srgbClr val="000000"/>
              </a:solidFill>
              <a:latin typeface="Calibri"/>
            </a:endParaRPr>
          </a:p>
        </p:txBody>
      </p:sp>
      <p:sp>
        <p:nvSpPr>
          <p:cNvPr id="43" name="Прямоугольник 4"/>
          <p:cNvSpPr/>
          <p:nvPr/>
        </p:nvSpPr>
        <p:spPr>
          <a:xfrm>
            <a:off x="611280" y="5084640"/>
            <a:ext cx="8137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юджет для граждан» нацелен на получение обратной связи от граждан, которым интересны современные проблемы государственных финансов в </a:t>
            </a:r>
            <a:r>
              <a:rPr b="0" lang="ru-RU" sz="2000" spc="-1" strike="noStrike">
                <a:solidFill>
                  <a:srgbClr val="000000"/>
                </a:solidFill>
                <a:latin typeface="Arial"/>
              </a:rPr>
              <a:t>Суоярвском районе</a:t>
            </a:r>
            <a:r>
              <a:rPr b="0" lang="ru-RU" sz="2000" spc="-1" strike="noStrike">
                <a:solidFill>
                  <a:srgbClr val="000000"/>
                </a:solidFill>
                <a:latin typeface="Calibri"/>
              </a:rPr>
              <a:t> и Российской Федерации.</a:t>
            </a:r>
            <a:endParaRPr b="0" lang="en-US" sz="2000" spc="-1" strike="noStrike">
              <a:solidFill>
                <a:srgbClr val="000000"/>
              </a:solidFill>
              <a:latin typeface="Calibri"/>
            </a:endParaRPr>
          </a:p>
        </p:txBody>
      </p:sp>
      <p:pic>
        <p:nvPicPr>
          <p:cNvPr id="44" name="Picture 2" descr=""/>
          <p:cNvPicPr/>
          <p:nvPr/>
        </p:nvPicPr>
        <p:blipFill>
          <a:blip r:embed="rId1"/>
          <a:stretch/>
        </p:blipFill>
        <p:spPr>
          <a:xfrm>
            <a:off x="468360" y="3633840"/>
            <a:ext cx="8028000" cy="145080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 name="PlaceHolder 2"/>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логовая политика на территории муниципального образования «Суоярвский район» (далее – район) в 2014  году и среднесрочную перспективу будет нацелена н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создание максимально благоприятных условий для осуществления предпринимательской и инвестиционной деятельност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стимулирование позитивных структурных изменений в экономике;</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увеличение доходного потенциала район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снижение масштабов уклонения от налогообложения, ужесточение требований и применяемых мер воздействия в отношении налогоплательщиков, несвоевременно и не в полной мере выполняющих свои обязанности по уплате налогов и сборов.</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Увеличение бюджетных поступлений должно в большей степени определяться дальнейшим ростом доходной базы за счет более полного использования природных и трудовых ресурсов, имеющихся на территории района, повышения эффективности управления собственностью район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Необходимо повысить качество и объективность администрирования доходов, сделать институт администрирования эффективным механизмом исполнения бюджетных показателей по доходам.</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В целях увеличения объемов производства и роста налоговых платежей предусматривается продолжить сотрудничество и взаимодействие с крупнейшими налогоплательщиками в районе.</a:t>
            </a:r>
            <a:endParaRPr b="0" lang="en-US" sz="1800" spc="-1" strike="noStrike">
              <a:solidFill>
                <a:srgbClr val="000000"/>
              </a:solidFill>
              <a:latin typeface="Calibri"/>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 name="PlaceHolder 2"/>
          <p:cNvSpPr>
            <a:spLocks noGrp="1"/>
          </p:cNvSpPr>
          <p:nvPr>
            <p:ph/>
          </p:nvPr>
        </p:nvSpPr>
        <p:spPr>
          <a:xfrm>
            <a:off x="457200" y="476280"/>
            <a:ext cx="8229600" cy="61214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еализация основных мероприятий поддержки и развития малого бизнеса должна способствовать формированию высокоэффективной экономики района.</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Продолжить работу по созданию налогового благоприятствования для налогоплательщиков, реализующих на территории района инвестиционные проекты.</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В целях укрепления налоговой дисциплины, сокращения «теневого» сектора экономики будет продолжена практика работы комиссии при Администрации МО «Суоярвский район» по легализации получаемых налогоплательщиками доходов.</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Бюджетная политика района на 2014 год и на период до 2016 года соответствует долгосрочным целям социально-экономического развития района: последовательное формирование условий для улучшения качества жизни населения и привлекательного инвестиционного и социального имиджа территории района.</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В бюджетной политике безусловным приоритетом является эффективное и прозрачное использование бюджетных средств для достижения общественно значимых результатов. Начатую работу по оценке эффективности бюджетных расходов  необходимо углублять и совершенствовать созданную нормативную правовую базу. Систематический анализ эффективности расходов  и контроль за достижением  целевых показателей даст возможность создания баз данных для анализа динамики показателей эффективности, усилит ответственность за достижение поставленных целей. Все принятые бюджетные обязательства должны безусловно выполняться. Работа по подготовке к переходу с 2015 года к «программному бюджету», когда формирование и исполнение бюджета будет осуществляться на базе муниципальных программ, требует комплексного подхода. Необходимо обеспечить корреляцию механизмов реализации и требуемых ресурсов для выполнения муниципальных программ с долгосрочными целями социально-экономической политики. Механизмы социально-экономической политики должны иметь под собой просчитанное бюджетное обеспечение.</a:t>
            </a:r>
            <a:endParaRPr b="0" lang="en-US" sz="1600" spc="-1" strike="noStrike">
              <a:solidFill>
                <a:srgbClr val="000000"/>
              </a:solidFill>
              <a:latin typeface="Calibri"/>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же в этом году при формировании проекта бюджета на 2014 год и на плановый период 2015 и 2016 годов должно использоваться аналитическое распределение бюджетных ассигнований по муниципальным программам, сформированное с учетом основных характеристик бюджета и решений об отнесении расходов к муниципальным программам. В целях повышения  эффективности и прозрачности управления финансами, усиления ответственности в использовании средств бюджета МО «Суоярвский район» следует обеспечить: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овершенствование системы  контроля  за эффективным и целевым использованием бюджетных средств, соблюдением требований бюджетного законодательств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существление действенного контроля (аудита) за эффективностью использования бюджетных ассигнований;</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силение ведомственного финансового контроля и внутреннего финансового аудита, ориентированного не только на выявление, но и на предотвращение финансовых нарушений.</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Бюджет МО «Суоярвский район» как в текущий период, так и в среднесрочной перспективе дефицитен. Рост муниципального долга - это  объективная реальность. Поэтому первостепенной стратегической задачей  Администрации МО «Суоярвский район» на данном этапе является сокращение темпов роста долга и сохранение умеренной долговой нагрузки в 2014 году и плановом периоде 2015 и 2016 годов.</a:t>
            </a:r>
            <a:endParaRPr b="0" lang="en-US" sz="1800" spc="-1" strike="noStrike">
              <a:solidFill>
                <a:srgbClr val="000000"/>
              </a:solidFill>
              <a:latin typeface="Calibri"/>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качестве основных приоритетов расходов бюджета МО «Суоярвский район» планируются следующие направления.</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повышение качества предоставляемых населению муниципальных услуг, прежде всего это относится к общественно-значимым сферам – к образованию, культуре.</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еханического наращивания бюджетных расходов в этих сферах происходить не должно. Несмотря на увеличение бюджетных расходов в последние годы, достигнутые результаты не всегда удовлетворяют граждан.</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постепенное смещение акцентов бюджетных расходов на направления, способствующие развитию социально-экономического потенциала район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в сфере социальной политики необходимо принять меры по усилению адресности в предоставлении мер социальной поддержки, в зависимости от нуждаемости их получателей.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создание туристского комплекса, обеспечивающего возможности для развития разнообразных туристских услуг путем  поддержки малого бизнеса.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области межбюджетных отношений с поселениями на 2014 год и плановый период 2015 и 2016 годов первоочередной задачей является повышение результативности межбюджетного регулирования, ответственности поселений за целевое использование бюджетных средств.</a:t>
            </a:r>
            <a:endParaRPr b="0" lang="en-US" sz="18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В целях обеспечения данной задачи основными направлениями бюджетной политики в сфере межбюджетных отношений должны стать: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повышение эффективности использования межбюджетных трансфертов – комплексная оценка эффективности в соответствии с принципами, согласно которым предоставление субсидий целесообразно и предусматривает повышение качества предоставления муниципальных услуг либо обусловлено неравномерным распределением потребителей отдельных муниципальных услуг. Сокращение наименее эффективных видов финансовой помощи и концентрация межбюджетных трансфертов на важнейших приоритетных направлениях.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контроль за расходованием бюджетных средств, направленный на выявление и  предотвращение фактов финансовых нарушений, недопущение кредиторской задолженности по принятым обязательствам, в первую очередь, по заработной плате и социальным выплатам.</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создание стимулов для повышения качества управления бюджетным процессом в поселениях. Необходимо продолжить работу по реализации программ мобилизации дополнительных доходов, реформирования муниципальных финансов, повышения эффективности бюджетных расходов. </a:t>
            </a:r>
            <a:endParaRPr b="0" lang="en-US" sz="1800" spc="-1" strike="noStrike">
              <a:solidFill>
                <a:srgbClr val="000000"/>
              </a:solidFill>
              <a:latin typeface="Calibri"/>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Основной задачей по выравниванию бюджетной обеспеченности поселений является сокращение различий в уровне обеспеченности потребностей граждан соответствующими финансовыми ресурсами для их удовлетворения. Сохранение различий в доходах поселений является необходимым условием для стимулирования органов местного самоуправления к увеличению налоговых доходов.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Необходимо совершенствовать методику расчета налогового потенциала поселений, применяемую при распределении межбюджетных трансфертов.</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Оценка налогового потенциала поселений должна в большей степени соответствовать оценке поступления налоговых доходов с учетом объективных экономических факторов и условий. Основой расчетов должен стать не один базовый год, а как минимум период в два – три года, включающий и показатели, характеризующие как потенциал за истекший период текущего года, так и потенциальные возможности территорий.</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Необходимо обеспечить режим экономного и рационального использования бюджетных средств, оптимизацию расходов на содержание органов местного самоуправления, а также усилить ответственность, в том числе финансовую, за качество и объемы предоставляемых муниципальных услуг.</a:t>
            </a:r>
            <a:endParaRPr b="0" lang="en-US" sz="18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Необходимо сосредоточить внимание на повышении эффективности управления муниципальным имуществом и земельными ресурсами, повышении качества администрирования доходов от их использования, принятии мер, направленных на совершенствование арендных отношений.</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Кроме того, в целях реализации имеющихся резервов роста требуется повышение эффективности взаимодействия  как с налогоплательщиками, так и с администраторами доходов.</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Таким образом, в 2014-2016 годах бюджетная и налоговая политика района будет ориентирована на повышение эффективности расходов и их концентрации на приоритетных направлениях государственной политики путем использования механизмов повышения результативности бюджетных расходов, стимулов для выявления и использования резервов для достижения планируемых (установленных) результатов.</a:t>
            </a:r>
            <a:endParaRPr b="0" lang="en-US" sz="20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763280" y="-847080"/>
            <a:ext cx="54723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 name="PlaceHolder 2"/>
          <p:cNvSpPr>
            <a:spLocks noGrp="1"/>
          </p:cNvSpPr>
          <p:nvPr>
            <p:ph/>
          </p:nvPr>
        </p:nvSpPr>
        <p:spPr>
          <a:xfrm>
            <a:off x="457200" y="692280"/>
            <a:ext cx="8229600" cy="59054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Межбюджетные отношения</a:t>
            </a:r>
            <a:r>
              <a:rPr b="0" lang="en-US" sz="1600" spc="-1" strike="noStrike">
                <a:solidFill>
                  <a:srgbClr val="000000"/>
                </a:solidFill>
                <a:latin typeface="Calibri"/>
              </a:rPr>
              <a:t> - взаимоотношения между публично-правовыми образованиями по вопросам регулирования бюджетных правоотношений, организации и осуществления бюджетного процесса</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Межбюджетные трансферты</a:t>
            </a:r>
            <a:r>
              <a:rPr b="0" lang="en-US" sz="1600" spc="-1" strike="noStrike">
                <a:solidFill>
                  <a:srgbClr val="000000"/>
                </a:solidFill>
                <a:latin typeface="Calibri"/>
              </a:rPr>
              <a:t> - средства, предоставляемые одним бюджетом бюджетной системы Российской Федерации другому бюджету бюджетной системы Российской Федерации.</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Дотации </a:t>
            </a:r>
            <a:r>
              <a:rPr b="0" lang="en-US" sz="1600" spc="-1" strike="noStrike">
                <a:solidFill>
                  <a:srgbClr val="000000"/>
                </a:solidFill>
                <a:latin typeface="Calibri"/>
              </a:rPr>
              <a:t>- межбюджетные трансферты, предоставляемые на безвозмездной и безвозвратной основе без установления направлений и (или) условий их использования.</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Администратор доходов бюджета</a:t>
            </a:r>
            <a:r>
              <a:rPr b="0" lang="en-US" sz="1600" spc="-1" strike="noStrike">
                <a:solidFill>
                  <a:srgbClr val="000000"/>
                </a:solidFill>
                <a:latin typeface="Calibri"/>
              </a:rPr>
              <a:t> - орган местного самоуправления, орган местной администрации, казенное учреждение, осуществляющие в соответствии с законодательством Российской Федерации контроль за правильностью исчисления, полнотой и своевременностью уплаты, начисление, учет, взыскание и принятие решений о возврате (зачете) излишне уплаченных (взысканных) платежей, пеней и штрафов по ним, являющихся доходами бюджетов бюджетной системы Российской Федерации.</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Главный администратор доходов бюджета</a:t>
            </a:r>
            <a:r>
              <a:rPr b="0" lang="en-US" sz="1600" spc="-1" strike="noStrike">
                <a:solidFill>
                  <a:srgbClr val="000000"/>
                </a:solidFill>
                <a:latin typeface="Calibri"/>
              </a:rPr>
              <a:t> - определенный решением о бюджете орган местного самоуправления, орган местной администрации, имеющие в своем ведении администраторов доходов бюджета и (или) являющиеся администраторами доходов бюджета.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Администратор источников финансирования дефицита бюджета</a:t>
            </a:r>
            <a:r>
              <a:rPr b="0" lang="en-US" sz="1600" spc="-1" strike="noStrike">
                <a:solidFill>
                  <a:srgbClr val="000000"/>
                </a:solidFill>
                <a:latin typeface="Calibri"/>
              </a:rPr>
              <a:t> - орган местного самоуправления, орган местной администрации, имеющие право осуществлять операции с источниками финансирования дефицита бюджета.</a:t>
            </a:r>
            <a:endParaRPr b="0" lang="en-US" sz="16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Поступления формирующие доходную часть бюджета м</a:t>
            </a:r>
            <a:r>
              <a:rPr b="1" lang="ru-RU" sz="3200" spc="-1" strike="noStrike">
                <a:solidFill>
                  <a:srgbClr val="000000"/>
                </a:solidFill>
                <a:latin typeface="Arial"/>
              </a:rPr>
              <a:t>униципального образования «Суоярвский район»</a:t>
            </a:r>
            <a:endParaRPr b="0" lang="en-US" sz="3200" spc="-1" strike="noStrike">
              <a:solidFill>
                <a:srgbClr val="000000"/>
              </a:solidFill>
              <a:latin typeface="Calibri"/>
            </a:endParaRPr>
          </a:p>
        </p:txBody>
      </p:sp>
      <p:pic>
        <p:nvPicPr>
          <p:cNvPr id="48" name="Picture 3" descr=""/>
          <p:cNvPicPr/>
          <p:nvPr/>
        </p:nvPicPr>
        <p:blipFill>
          <a:blip r:embed="rId1"/>
          <a:stretch/>
        </p:blipFill>
        <p:spPr>
          <a:xfrm>
            <a:off x="587520" y="1847880"/>
            <a:ext cx="7968960" cy="4030560"/>
          </a:xfrm>
          <a:prstGeom prst="rect">
            <a:avLst/>
          </a:prstGeom>
          <a:ln w="0">
            <a:noFill/>
          </a:ln>
        </p:spPr>
      </p:pic>
      <p:sp>
        <p:nvSpPr>
          <p:cNvPr id="49" name="Прямоугольник 5"/>
          <p:cNvSpPr/>
          <p:nvPr/>
        </p:nvSpPr>
        <p:spPr>
          <a:xfrm>
            <a:off x="3419640" y="3429000"/>
            <a:ext cx="2255760" cy="2521080"/>
          </a:xfrm>
          <a:prstGeom prst="rect">
            <a:avLst/>
          </a:prstGeom>
          <a:solidFill>
            <a:srgbClr val="d7e4bd"/>
          </a:solidFill>
          <a:ln w="25560">
            <a:solidFill>
              <a:srgbClr val="385d8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НЕНАЛОГОВЫЕ ДОХОД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Платежи, которые включают в себя возмездные операции от прямого предоставления муниципалитета  в пользование имущества, от различного вида услуг, а так же платежи в виде штрафов или иных санкций за нарушение законодательства</a:t>
            </a:r>
            <a:endParaRPr b="0" lang="en-US" sz="12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274680"/>
            <a:ext cx="829152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руктура доходов  м</a:t>
            </a:r>
            <a:r>
              <a:rPr b="0" lang="ru-RU" sz="2000" spc="-1" strike="noStrike">
                <a:solidFill>
                  <a:srgbClr val="000000"/>
                </a:solidFill>
                <a:latin typeface="Arial"/>
              </a:rPr>
              <a:t>униципального образования «Суоярвский район»</a:t>
            </a:r>
            <a:r>
              <a:rPr b="0" lang="ru-RU" sz="2000" spc="-1" strike="noStrike">
                <a:solidFill>
                  <a:srgbClr val="000000"/>
                </a:solidFill>
                <a:latin typeface="Calibri"/>
              </a:rPr>
              <a:t> </a:t>
            </a:r>
            <a:br>
              <a:rPr sz="2000"/>
            </a:br>
            <a:r>
              <a:rPr b="0" lang="ru-RU" sz="2000" spc="-1" strike="noStrike">
                <a:solidFill>
                  <a:srgbClr val="000000"/>
                </a:solidFill>
                <a:latin typeface="Calibri"/>
              </a:rPr>
              <a:t> в 2012-2014 году</a:t>
            </a:r>
            <a:endParaRPr b="0" lang="en-US" sz="2000" spc="-1" strike="noStrike">
              <a:solidFill>
                <a:srgbClr val="000000"/>
              </a:solidFill>
              <a:latin typeface="Calibri"/>
            </a:endParaRPr>
          </a:p>
        </p:txBody>
      </p:sp>
      <p:graphicFrame>
        <p:nvGraphicFramePr>
          <p:cNvPr id="51" name=""/>
          <p:cNvGraphicFramePr/>
          <p:nvPr/>
        </p:nvGraphicFramePr>
        <p:xfrm>
          <a:off x="0" y="1628640"/>
          <a:ext cx="8964720" cy="4972320"/>
        </p:xfrm>
        <a:graphic>
          <a:graphicData uri="http://schemas.openxmlformats.org/presentationml/2006/ole">
            <p:oleObj r:id="rId1" spid="">
              <p:embed/>
              <p:pic>
                <p:nvPicPr>
                  <p:cNvPr id="52" name="" descr=""/>
                  <p:cNvPicPr/>
                  <p:nvPr/>
                </p:nvPicPr>
                <p:blipFill>
                  <a:blip r:embed="rId2"/>
                  <a:stretch/>
                </p:blipFill>
                <p:spPr>
                  <a:xfrm>
                    <a:off x="0" y="1628640"/>
                    <a:ext cx="8964720" cy="4972320"/>
                  </a:xfrm>
                  <a:prstGeom prst="rect">
                    <a:avLst/>
                  </a:prstGeom>
                  <a:ln w="0">
                    <a:noFill/>
                  </a:ln>
                </p:spPr>
              </p:pic>
            </p:oleObj>
          </a:graphicData>
        </a:graphic>
      </p:graphicFrame>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труктура доходов бюджета муниципального образования «Суоярвский район» в 2014 году</a:t>
            </a:r>
            <a:endParaRPr b="0" lang="en-US" sz="2800" spc="-1" strike="noStrike">
              <a:solidFill>
                <a:srgbClr val="000000"/>
              </a:solidFill>
              <a:latin typeface="Calibri"/>
            </a:endParaRPr>
          </a:p>
        </p:txBody>
      </p:sp>
      <p:graphicFrame>
        <p:nvGraphicFramePr>
          <p:cNvPr id="54" name="Объект 3"/>
          <p:cNvGraphicFramePr/>
          <p:nvPr/>
        </p:nvGraphicFramePr>
        <p:xfrm>
          <a:off x="611280" y="1125360"/>
          <a:ext cx="8064360" cy="5472360"/>
        </p:xfrm>
        <a:graphic>
          <a:graphicData uri="http://schemas.openxmlformats.org/presentationml/2006/ole">
            <p:oleObj progId="Excel.Sheet.12" r:id="rId1" spid="">
              <p:embed/>
              <p:pic>
                <p:nvPicPr>
                  <p:cNvPr id="55" name="Объект 3" descr=""/>
                  <p:cNvPicPr/>
                  <p:nvPr/>
                </p:nvPicPr>
                <p:blipFill>
                  <a:blip r:embed="rId2"/>
                  <a:stretch/>
                </p:blipFill>
                <p:spPr>
                  <a:xfrm>
                    <a:off x="611280" y="1125360"/>
                    <a:ext cx="8064360" cy="5472360"/>
                  </a:xfrm>
                  <a:prstGeom prst="rect">
                    <a:avLst/>
                  </a:prstGeom>
                  <a:ln w="0">
                    <a:noFill/>
                  </a:ln>
                </p:spPr>
              </p:pic>
            </p:oleObj>
          </a:graphicData>
        </a:graphic>
      </p:graphicFrame>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74320"/>
            <a:ext cx="829152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ступления доходов в бюджет м</a:t>
            </a:r>
            <a:r>
              <a:rPr b="0" lang="ru-RU" sz="2400" spc="-1" strike="noStrike">
                <a:solidFill>
                  <a:srgbClr val="000000"/>
                </a:solidFill>
                <a:latin typeface="Arial"/>
              </a:rPr>
              <a:t>униципального образования «Суоярвский район»</a:t>
            </a:r>
            <a:r>
              <a:rPr b="0" lang="ru-RU" sz="2400" spc="-1" strike="noStrike">
                <a:solidFill>
                  <a:srgbClr val="000000"/>
                </a:solidFill>
                <a:latin typeface="Calibri"/>
              </a:rPr>
              <a:t> в 2014 году</a:t>
            </a:r>
            <a:endParaRPr b="0" lang="en-US" sz="2400" spc="-1" strike="noStrike">
              <a:solidFill>
                <a:srgbClr val="000000"/>
              </a:solidFill>
              <a:latin typeface="Calibri"/>
            </a:endParaRPr>
          </a:p>
        </p:txBody>
      </p:sp>
      <p:graphicFrame>
        <p:nvGraphicFramePr>
          <p:cNvPr id="57" name=""/>
          <p:cNvGraphicFramePr/>
          <p:nvPr/>
        </p:nvGraphicFramePr>
        <p:xfrm>
          <a:off x="611280" y="1557360"/>
          <a:ext cx="8064360" cy="5189400"/>
        </p:xfrm>
        <a:graphic>
          <a:graphicData uri="http://schemas.openxmlformats.org/drawingml/2006/table">
            <a:tbl>
              <a:tblPr/>
              <a:tblGrid>
                <a:gridCol w="6243480"/>
                <a:gridCol w="1820880"/>
              </a:tblGrid>
              <a:tr h="3589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Наименование дохода</a:t>
                      </a:r>
                      <a:endParaRPr b="0" lang="en-US" sz="17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ab5e4"/>
                        </a:gs>
                        <a:gs pos="100000">
                          <a:srgbClr val="e1e8f5"/>
                        </a:gs>
                      </a:gsLst>
                      <a:lin ang="5400000"/>
                    </a:gra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Сумма тыс. руб.</a:t>
                      </a:r>
                      <a:endParaRPr b="0" lang="en-US" sz="17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ab5e4"/>
                        </a:gs>
                        <a:gs pos="100000">
                          <a:srgbClr val="e1e8f5"/>
                        </a:gs>
                      </a:gsLst>
                      <a:lin ang="5400000"/>
                    </a:gradFill>
                  </a:tcPr>
                </a:tc>
              </a:tr>
              <a:tr h="331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Доходы</a:t>
                      </a:r>
                      <a:endParaRPr b="0" lang="en-US" sz="17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ab5e4"/>
                        </a:gs>
                        <a:gs pos="100000">
                          <a:srgbClr val="e1e8f5"/>
                        </a:gs>
                      </a:gsLst>
                      <a:lin ang="5400000"/>
                    </a:gra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Times New Roman"/>
                        </a:rPr>
                        <a:t>372724</a:t>
                      </a:r>
                      <a:endParaRPr b="0" lang="en-US" sz="17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ab5e4"/>
                        </a:gs>
                        <a:gs pos="100000">
                          <a:srgbClr val="e1e8f5"/>
                        </a:gs>
                      </a:gsLst>
                      <a:lin ang="5400000"/>
                    </a:gradFill>
                  </a:tcPr>
                </a:tc>
              </a:tr>
              <a:tr h="3016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Налог на доходы физических лиц</a:t>
                      </a:r>
                      <a:endParaRPr b="0" lang="en-US" sz="14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ab5e4"/>
                        </a:gs>
                        <a:gs pos="100000">
                          <a:srgbClr val="e1e8f5"/>
                        </a:gs>
                      </a:gsLst>
                      <a:lin ang="5400000"/>
                    </a:gra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8083</a:t>
                      </a:r>
                      <a:endParaRPr b="0" lang="en-US" sz="16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ab5e4"/>
                        </a:gs>
                        <a:gs pos="100000">
                          <a:srgbClr val="e1e8f5"/>
                        </a:gs>
                      </a:gsLst>
                      <a:lin ang="5400000"/>
                    </a:gradFill>
                  </a:tcPr>
                </a:tc>
              </a:tr>
              <a:tr h="298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Налог на совокупный доход</a:t>
                      </a:r>
                      <a:endParaRPr b="0" lang="en-US" sz="17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ab5e4"/>
                        </a:gs>
                        <a:gs pos="100000">
                          <a:srgbClr val="e1e8f5"/>
                        </a:gs>
                      </a:gsLst>
                      <a:lin ang="5400000"/>
                    </a:gra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10</a:t>
                      </a:r>
                      <a:endParaRPr b="0" lang="en-US" sz="16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ab5e4"/>
                        </a:gs>
                        <a:gs pos="100000">
                          <a:srgbClr val="e1e8f5"/>
                        </a:gs>
                      </a:gsLst>
                      <a:lin ang="5400000"/>
                    </a:gradFill>
                  </a:tcPr>
                </a:tc>
              </a:tr>
              <a:tr h="301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Государственная пошлина</a:t>
                      </a:r>
                      <a:endParaRPr b="0" lang="en-US" sz="14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ab5e4"/>
                        </a:gs>
                        <a:gs pos="100000">
                          <a:srgbClr val="e1e8f5"/>
                        </a:gs>
                      </a:gsLst>
                      <a:lin ang="5400000"/>
                    </a:gra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endParaRPr b="0" lang="en-US" sz="16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ab5e4"/>
                        </a:gs>
                        <a:gs pos="100000">
                          <a:srgbClr val="e1e8f5"/>
                        </a:gs>
                      </a:gsLst>
                      <a:lin ang="5400000"/>
                    </a:gradFill>
                  </a:tcPr>
                </a:tc>
              </a:tr>
              <a:tr h="298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патент</a:t>
                      </a:r>
                      <a:endParaRPr b="0" lang="en-US" sz="17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ab5e4"/>
                        </a:gs>
                        <a:gs pos="100000">
                          <a:srgbClr val="e1e8f5"/>
                        </a:gs>
                      </a:gsLst>
                      <a:lin ang="5400000"/>
                    </a:gra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0</a:t>
                      </a:r>
                      <a:endParaRPr b="0" lang="en-US" sz="16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ab5e4"/>
                        </a:gs>
                        <a:gs pos="100000">
                          <a:srgbClr val="e1e8f5"/>
                        </a:gs>
                      </a:gsLst>
                      <a:lin ang="5400000"/>
                    </a:gradFill>
                  </a:tcPr>
                </a:tc>
              </a:tr>
              <a:tr h="299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Платежи при пользовании природными ресурсами</a:t>
                      </a:r>
                      <a:endParaRPr b="0" lang="en-US" sz="17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ab5e4"/>
                        </a:gs>
                        <a:gs pos="100000">
                          <a:srgbClr val="e1e8f5"/>
                        </a:gs>
                      </a:gsLst>
                      <a:lin ang="5400000"/>
                    </a:gra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0</a:t>
                      </a:r>
                      <a:endParaRPr b="0" lang="en-US" sz="16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ab5e4"/>
                        </a:gs>
                        <a:gs pos="100000">
                          <a:srgbClr val="e1e8f5"/>
                        </a:gs>
                      </a:gsLst>
                      <a:lin ang="5400000"/>
                    </a:gradFill>
                  </a:tcPr>
                </a:tc>
              </a:tr>
              <a:tr h="540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Доход от оказания платных услуг и компенсации затрат государства</a:t>
                      </a:r>
                      <a:endParaRPr b="0" lang="en-US" sz="17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ab5e4"/>
                        </a:gs>
                        <a:gs pos="100000">
                          <a:srgbClr val="e1e8f5"/>
                        </a:gs>
                      </a:gsLst>
                      <a:lin ang="5400000"/>
                    </a:gra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000</a:t>
                      </a:r>
                      <a:endParaRPr b="0" lang="en-US" sz="16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ab5e4"/>
                        </a:gs>
                        <a:gs pos="100000">
                          <a:srgbClr val="e1e8f5"/>
                        </a:gs>
                      </a:gsLst>
                      <a:lin ang="5400000"/>
                    </a:gradFill>
                  </a:tcPr>
                </a:tc>
              </a:tr>
              <a:tr h="2854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Доход от продажи материальных и нематериальных активов</a:t>
                      </a:r>
                      <a:endParaRPr b="0" lang="en-US" sz="17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ab5e4"/>
                        </a:gs>
                        <a:gs pos="100000">
                          <a:srgbClr val="e1e8f5"/>
                        </a:gs>
                      </a:gsLst>
                      <a:lin ang="5400000"/>
                    </a:gra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50</a:t>
                      </a:r>
                      <a:endParaRPr b="0" lang="en-US" sz="16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ab5e4"/>
                        </a:gs>
                        <a:gs pos="100000">
                          <a:srgbClr val="e1e8f5"/>
                        </a:gs>
                      </a:gsLst>
                      <a:lin ang="5400000"/>
                    </a:gradFill>
                  </a:tcPr>
                </a:tc>
              </a:tr>
              <a:tr h="6271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Доходы от использования имущества, находящегося в государственной и муниципальной собственности</a:t>
                      </a:r>
                      <a:endParaRPr b="0" lang="en-US" sz="17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ab5e4"/>
                        </a:gs>
                        <a:gs pos="100000">
                          <a:srgbClr val="e1e8f5"/>
                        </a:gs>
                      </a:gsLst>
                      <a:lin ang="5400000"/>
                    </a:gra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850</a:t>
                      </a:r>
                      <a:r>
                        <a:rPr b="0" lang="en-US" sz="1400" spc="-1" strike="noStrike">
                          <a:solidFill>
                            <a:srgbClr val="000000"/>
                          </a:solidFill>
                          <a:latin typeface="Calibri"/>
                        </a:rPr>
                        <a:t> </a:t>
                      </a:r>
                      <a:endParaRPr b="0" lang="en-US" sz="14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ab5e4"/>
                        </a:gs>
                        <a:gs pos="100000">
                          <a:srgbClr val="e1e8f5"/>
                        </a:gs>
                      </a:gsLst>
                      <a:lin ang="5400000"/>
                    </a:gradFill>
                  </a:tcPr>
                </a:tc>
              </a:tr>
              <a:tr h="3463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Times New Roman"/>
                        </a:rPr>
                        <a:t>Штрафы, санкции, возмещение ущерба</a:t>
                      </a:r>
                      <a:endParaRPr b="0" lang="en-US" sz="17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ab5e4"/>
                        </a:gs>
                        <a:gs pos="100000">
                          <a:srgbClr val="e1e8f5"/>
                        </a:gs>
                      </a:gsLst>
                      <a:lin ang="5400000"/>
                    </a:gra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1485</a:t>
                      </a:r>
                      <a:endParaRPr b="0" lang="en-US" sz="16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ab5e4"/>
                        </a:gs>
                        <a:gs pos="100000">
                          <a:srgbClr val="e1e8f5"/>
                        </a:gs>
                      </a:gsLst>
                      <a:lin ang="5400000"/>
                    </a:gradFill>
                  </a:tcPr>
                </a:tc>
              </a:tr>
              <a:tr h="3013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Times New Roman"/>
                        </a:rPr>
                        <a:t>Прочие неналоговые доходы</a:t>
                      </a:r>
                      <a:endParaRPr b="0" lang="en-US" sz="17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ab5e4"/>
                        </a:gs>
                        <a:gs pos="100000">
                          <a:srgbClr val="e1e8f5"/>
                        </a:gs>
                      </a:gsLst>
                      <a:lin ang="5400000"/>
                    </a:gra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Times New Roman"/>
                        </a:rPr>
                        <a:t>200</a:t>
                      </a:r>
                      <a:endParaRPr b="0" lang="en-US" sz="17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ab5e4"/>
                        </a:gs>
                        <a:gs pos="100000">
                          <a:srgbClr val="e1e8f5"/>
                        </a:gs>
                      </a:gsLst>
                      <a:lin ang="5400000"/>
                    </a:gradFill>
                  </a:tcPr>
                </a:tc>
              </a:tr>
              <a:tr h="4701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Безвозмездные перечисления всего</a:t>
                      </a:r>
                      <a:endParaRPr b="0" lang="en-US" sz="17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ab5e4"/>
                        </a:gs>
                        <a:gs pos="100000">
                          <a:srgbClr val="e1e8f5"/>
                        </a:gs>
                      </a:gsLst>
                      <a:lin ang="5400000"/>
                    </a:gra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Times New Roman"/>
                        </a:rPr>
                        <a:t>252346</a:t>
                      </a:r>
                      <a:endParaRPr b="0" lang="en-US" sz="17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ab5e4"/>
                        </a:gs>
                        <a:gs pos="100000">
                          <a:srgbClr val="e1e8f5"/>
                        </a:gs>
                      </a:gsLst>
                      <a:lin ang="5400000"/>
                    </a:gradFill>
                  </a:tcPr>
                </a:tc>
              </a:tr>
              <a:tr h="4284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Всего доходов</a:t>
                      </a:r>
                      <a:endParaRPr b="0" lang="en-US" sz="17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ab5e4"/>
                        </a:gs>
                        <a:gs pos="100000">
                          <a:srgbClr val="e1e8f5"/>
                        </a:gs>
                      </a:gsLst>
                      <a:lin ang="5400000"/>
                    </a:gra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72724</a:t>
                      </a:r>
                      <a:r>
                        <a:rPr b="1" lang="en-US" sz="1700" spc="-1" strike="noStrike">
                          <a:solidFill>
                            <a:srgbClr val="000000"/>
                          </a:solidFill>
                          <a:latin typeface="Calibri"/>
                        </a:rPr>
                        <a:t> </a:t>
                      </a:r>
                      <a:endParaRPr b="0" lang="en-US" sz="17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ab5e4"/>
                        </a:gs>
                        <a:gs pos="100000">
                          <a:srgbClr val="e1e8f5"/>
                        </a:gs>
                      </a:gsLst>
                      <a:lin ang="5400000"/>
                    </a:gradFill>
                  </a:tcPr>
                </a:tc>
              </a:tr>
            </a:tbl>
          </a:graphicData>
        </a:graphic>
      </p:graphicFrame>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90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Нормативы распределения доходов между</a:t>
            </a:r>
            <a:br>
              <a:rPr sz="2000"/>
            </a:br>
            <a:r>
              <a:rPr b="1" lang="en-US" sz="2000" spc="-1" strike="noStrike">
                <a:solidFill>
                  <a:srgbClr val="000000"/>
                </a:solidFill>
                <a:latin typeface="Calibri"/>
              </a:rPr>
              <a:t> бюджетом муниципального образования  и </a:t>
            </a:r>
            <a:br>
              <a:rPr sz="2000"/>
            </a:br>
            <a:r>
              <a:rPr b="1" lang="en-US" sz="2000" spc="-1" strike="noStrike">
                <a:solidFill>
                  <a:srgbClr val="000000"/>
                </a:solidFill>
                <a:latin typeface="Calibri"/>
              </a:rPr>
              <a:t>бюджетами поселений на  2014 год (в процентах)</a:t>
            </a:r>
            <a:endParaRPr b="0" lang="en-US" sz="2000" spc="-1" strike="noStrike">
              <a:solidFill>
                <a:srgbClr val="000000"/>
              </a:solidFill>
              <a:latin typeface="Calibri"/>
            </a:endParaRPr>
          </a:p>
        </p:txBody>
      </p:sp>
      <p:graphicFrame>
        <p:nvGraphicFramePr>
          <p:cNvPr id="59" name=""/>
          <p:cNvGraphicFramePr/>
          <p:nvPr/>
        </p:nvGraphicFramePr>
        <p:xfrm>
          <a:off x="179280" y="1155600"/>
          <a:ext cx="8785440" cy="5634000"/>
        </p:xfrm>
        <a:graphic>
          <a:graphicData uri="http://schemas.openxmlformats.org/drawingml/2006/table">
            <a:tbl>
              <a:tblPr/>
              <a:tblGrid>
                <a:gridCol w="6048360"/>
                <a:gridCol w="1516320"/>
                <a:gridCol w="1220760"/>
              </a:tblGrid>
              <a:tr h="550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Наименование дохода</a:t>
                      </a:r>
                      <a:endParaRPr b="0" lang="en-US" sz="1400" spc="-1" strike="noStrike">
                        <a:solidFill>
                          <a:srgbClr val="000000"/>
                        </a:solidFill>
                        <a:latin typeface="Calibri"/>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Бюджет муниципального образования</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Бюджеты поселений</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В ЧАСТИ ДОХОДОВ ОТ УПЛАТЫ ГОСУДАРСТВЕННОЙ ПОШЛИНЫ</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a:no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Государственная пошлина за совершение действий, связанных с лицензированием, с проведением в случаях, если такая аттестация предусмотрена законодательством Российской Федерации, зачисляемая в бюджеты муниципальных районов</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a:no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Государственная пошлина за выдачу разрешения на установку рекламной конструкции</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В ЧАСТИ ПОГАШЕНИЯ ЗАДОЛЖЕННОСТИ И ПЕРЕРАСЧЕТОВ ПО ОТМЕНЕННЫМ  НАЛОГАМ, СБОРАМ И ИНЫМ ОБЯЗАТЕЛЬНЫМ ПЛАТЕЖАМ</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a:no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латежи за проведение поисковых и разведочных  работ</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a:noFill/>
                    </a:lnT>
                    <a:lnB w="5760">
                      <a:solidFill>
                        <a:srgbClr val="000000"/>
                      </a:solid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алог на прибыль организаций, зачислявшийся до 1 января 2005 года в местные бюджеты, мобилизуемый на территориях муниципальных районов</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латежи за добычу общераспространенных полезных ископаемых</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Налог с продаж</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рочие налоги и сборы</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Прочие местные налоги и сборы, мобилизуемые на территориях муниципальных районов</a:t>
                      </a:r>
                      <a:endParaRPr b="0" lang="en-US" sz="11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a:no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В ЧАСТИ ШТРАФОВ, САНКЦИЙ, ВОЗМЕЩЕНИЯ УЩЕРБА</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a:noFill/>
                    </a:lnT>
                    <a:lnB w="5760">
                      <a:solidFill>
                        <a:srgbClr val="00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Денежные взыскания (штрафы) и иные суммы,  взыскиваемые с лиц, виновных в совершении преступлений, и в возмещение ущерба имуществу, зачисляемые в бюджеты муниципальных районов</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рочие поступления от денежных взысканий (штрафов) и иных сумм в возмещение ущерба, зачисляемые в бюджеты муниципальных районов</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Денежные взыскания (штрафы) за несоблюдение правил благоустройства  </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a:t>
                      </a:r>
                      <a:endParaRPr b="0" lang="en-US" sz="12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a:noFill/>
                    </a:lnB>
                    <a:noFill/>
                  </a:tcPr>
                </a:tc>
              </a:tr>
            </a:tbl>
          </a:graphicData>
        </a:graphic>
      </p:graphicFrame>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0"/>
            <a:ext cx="82296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Распределение расходов бюджета м</a:t>
            </a:r>
            <a:r>
              <a:rPr b="0" lang="ru-RU" sz="2400" spc="-1" strike="noStrike">
                <a:solidFill>
                  <a:srgbClr val="000000"/>
                </a:solidFill>
                <a:latin typeface="Arial"/>
              </a:rPr>
              <a:t>униципального образования «Суоярвский район» </a:t>
            </a:r>
            <a:r>
              <a:rPr b="0" lang="ru-RU" sz="2400" spc="-1" strike="noStrike">
                <a:solidFill>
                  <a:srgbClr val="000000"/>
                </a:solidFill>
                <a:latin typeface="Calibri"/>
              </a:rPr>
              <a:t>на 2014 год</a:t>
            </a:r>
            <a:endParaRPr b="0" lang="en-US" sz="2400" spc="-1" strike="noStrike">
              <a:solidFill>
                <a:srgbClr val="000000"/>
              </a:solidFill>
              <a:latin typeface="Calibri"/>
            </a:endParaRPr>
          </a:p>
        </p:txBody>
      </p:sp>
      <p:graphicFrame>
        <p:nvGraphicFramePr>
          <p:cNvPr id="61" name="Объект 3"/>
          <p:cNvGraphicFramePr/>
          <p:nvPr/>
        </p:nvGraphicFramePr>
        <p:xfrm>
          <a:off x="249120" y="1052640"/>
          <a:ext cx="8050320" cy="5545080"/>
        </p:xfrm>
        <a:graphic>
          <a:graphicData uri="http://schemas.openxmlformats.org/presentationml/2006/ole">
            <p:oleObj progId="Excel.Sheet.12" r:id="rId1" spid="">
              <p:embed/>
              <p:pic>
                <p:nvPicPr>
                  <p:cNvPr id="62" name="Объект 3" descr=""/>
                  <p:cNvPicPr/>
                  <p:nvPr/>
                </p:nvPicPr>
                <p:blipFill>
                  <a:blip r:embed="rId2"/>
                  <a:stretch/>
                </p:blipFill>
                <p:spPr>
                  <a:xfrm>
                    <a:off x="249120" y="1052640"/>
                    <a:ext cx="8050320" cy="5545080"/>
                  </a:xfrm>
                  <a:prstGeom prst="rect">
                    <a:avLst/>
                  </a:prstGeom>
                  <a:ln w="0">
                    <a:noFill/>
                  </a:ln>
                </p:spPr>
              </p:pic>
            </p:oleObj>
          </a:graphicData>
        </a:graphic>
      </p:graphicFrame>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3T07:02:56Z</dcterms:created>
  <dc:creator>Дима</dc:creator>
  <dc:description/>
  <dc:language>en-US</dc:language>
  <cp:lastModifiedBy>Яблокова О. Б.</cp:lastModifiedBy>
  <dcterms:modified xsi:type="dcterms:W3CDTF">2013-12-09T12:13:30Z</dcterms:modified>
  <cp:revision>64</cp:revision>
  <dc:subject/>
  <dc:title>БЮДЖЕТ ДЛЯ ГРАЖДАН   НОВОМИХАЙЛОВСКОГО ГОРОДСКОГО ПОСЕЛЕНИЯ</dc:title>
</cp:coreProperties>
</file>